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13CD-0277-4FDC-9BB7-53378946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2C13-47E1-42A4-A518-390B408D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FDCF-08AB-4499-9863-6B0441EE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F904-36E7-479E-A69E-F9BD89A76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4FD82-E794-4005-A95F-EB07CFB4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23A21-0F12-49C7-9DC6-5D14E38C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667C5-4FD4-4419-AA2C-F602392E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18A4E-9F42-42C0-AEEC-84A49EA1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5AB30-6BE8-43DD-9DF1-5081F6BE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E0C56-A390-4F2E-8409-28F07CD5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B5237-06A8-4C77-A5CA-8CBE4962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0EC4-3AC4-44D9-B4FE-62D143ED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9EBBF-2E0D-493E-84CF-9A5118B4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938DA-CA02-4336-A13F-039643F2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6C922-6CB4-440F-92EB-5155AD8B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5EB5A-4B35-4877-9F2F-F28BF036C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7BEFF-65DC-4BF7-83AF-4E7B14FE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72A9-44D7-425D-A2D5-38E203D7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5E50-60B3-4881-8282-2CC71353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0434-66B8-4FA6-975C-5644C00F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BAD1-166D-4B42-9908-A8AA7180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862C-3DCE-4ED7-B0AA-F9E7FE94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C920-8D03-4506-88DB-DB01F9D1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96D1-B971-4ECE-95B8-0B2B32FA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64F5-D5CF-4996-885B-23D892B187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7146-84E6-489C-A19A-9A4691B243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6000" spc="-1" strike="noStrike">
                <a:solidFill>
                  <a:srgbClr val="ffffff"/>
                </a:solidFill>
                <a:latin typeface="Tahoma"/>
              </a:rPr>
              <a:t>p0w3rp0Int ru1@z</a:t>
            </a:r>
            <a:br>
              <a:rPr sz="6000"/>
            </a:br>
            <a:r>
              <a:rPr b="1" lang="de-CH" sz="2000" spc="-1" strike="noStrike">
                <a:solidFill>
                  <a:srgbClr val="ffffff"/>
                </a:solidFill>
                <a:latin typeface="Tahoma"/>
              </a:rPr>
              <a:t>by atlant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35280" y="4941360"/>
            <a:ext cx="5329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presented at Buenzli 14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powerpoint by robocop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music by maliktrey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16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19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22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102120" y="1916280"/>
            <a:ext cx="2909880" cy="4429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27612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Tahoma"/>
              </a:rPr>
              <a:t>0r w3 c@11 th3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25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500"/>
                            </p:stCondLst>
                            <p:childTnLst>
                              <p:par>
                                <p:cTn id="3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Tahoma"/>
              </a:rPr>
              <a:t>th3y w1ll @rr3st y0u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76360" y="1862280"/>
            <a:ext cx="6120000" cy="45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41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600"/>
                            </p:stCondLst>
                            <p:childTnLst>
                              <p:par>
                                <p:cTn id="331" nodeType="after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200"/>
                            </p:stCondLst>
                            <p:childTnLst>
                              <p:par>
                                <p:cTn id="3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92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192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3" dur="192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5" dur="192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700"/>
                            </p:stCondLst>
                            <p:childTnLst>
                              <p:par>
                                <p:cTn id="3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200"/>
                            </p:stCondLst>
                            <p:childTnLst>
                              <p:par>
                                <p:cTn id="352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24000" y="457200"/>
            <a:ext cx="2489040" cy="5943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300720" y="476280"/>
            <a:ext cx="2482920" cy="5905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348000" y="476280"/>
            <a:ext cx="237636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j@1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1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n0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funn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! !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3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5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000"/>
                            </p:stCondLst>
                            <p:childTnLst>
                              <p:par>
                                <p:cTn id="392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9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8000"/>
                            </p:stCondLst>
                            <p:childTnLst>
                              <p:par>
                                <p:cTn id="406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9200"/>
                            </p:stCondLst>
                            <p:childTnLst>
                              <p:par>
                                <p:cTn id="413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500" autoRev="1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1200"/>
                            </p:stCondLst>
                            <p:childTnLst>
                              <p:par>
                                <p:cTn id="417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9" dur="250" autoRev="1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2200"/>
                            </p:stCondLst>
                            <p:childTnLst>
                              <p:par>
                                <p:cTn id="421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3" dur="250" autoRev="1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3200"/>
                            </p:stCondLst>
                            <p:childTnLst>
                              <p:par>
                                <p:cTn id="425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4200"/>
                            </p:stCondLst>
                            <p:childTnLst>
                              <p:par>
                                <p:cTn id="429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250" autoRev="1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200"/>
                            </p:stCondLst>
                            <p:childTnLst>
                              <p:par>
                                <p:cTn id="433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3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5700"/>
                            </p:stCondLst>
                            <p:childTnLst>
                              <p:par>
                                <p:cTn id="437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3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6200"/>
                            </p:stCondLst>
                            <p:childTnLst>
                              <p:par>
                                <p:cTn id="441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4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6700"/>
                            </p:stCondLst>
                            <p:childTnLst>
                              <p:par>
                                <p:cTn id="445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4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7200"/>
                            </p:stCondLst>
                            <p:childTnLst>
                              <p:par>
                                <p:cTn id="449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5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7750"/>
                            </p:stCondLst>
                            <p:childTnLst>
                              <p:par>
                                <p:cTn id="453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8750"/>
                            </p:stCondLst>
                            <p:childTnLst>
                              <p:par>
                                <p:cTn id="459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0w3rp0Int ru1@z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35280" y="4941360"/>
            <a:ext cx="5329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another nice atlantis release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presented at Buenzli 14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greetings to all our friends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+++ no carrier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wedg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0.89323 -0.82084 E">
                                      <p:cBhvr>
                                        <p:cTn id="47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500"/>
                            </p:stCondLst>
                            <p:childTnLst>
                              <p:par>
                                <p:cTn id="478" nodeType="afterEffect" fill="hold" presetClass="emph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9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500"/>
                            </p:stCondLst>
                            <p:childTnLst>
                              <p:par>
                                <p:cTn id="48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07407E-006 L -0.88212 0.77408 E">
                                      <p:cBhvr>
                                        <p:cTn id="482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500"/>
                            </p:stCondLst>
                            <p:childTnLst>
                              <p:par>
                                <p:cTn id="48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8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6700"/>
                            </p:stCondLst>
                            <p:childTnLst>
                              <p:par>
                                <p:cTn id="49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492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8700"/>
                            </p:stCondLst>
                            <p:childTnLst>
                              <p:par>
                                <p:cTn id="494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4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9200"/>
                            </p:stCondLst>
                            <p:childTnLst>
                              <p:par>
                                <p:cTn id="49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3333E-006 L 0.47899 0.72801 E">
                                      <p:cBhvr>
                                        <p:cTn id="498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1200"/>
                            </p:stCondLst>
                            <p:childTnLst>
                              <p:par>
                                <p:cTn id="500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0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9280" y="1549440"/>
            <a:ext cx="878544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600" spc="-1" strike="noStrike">
                <a:solidFill>
                  <a:srgbClr val="00ff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99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1" lang="de-CH" sz="88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de-CH" sz="8800" spc="-1" strike="noStrike">
                <a:solidFill>
                  <a:srgbClr val="ff9900"/>
                </a:solidFill>
                <a:latin typeface="Tahoma"/>
              </a:rPr>
              <a:t>.</a:t>
            </a:r>
            <a:r>
              <a:rPr b="1" lang="de-CH" sz="8800" spc="-1" strike="noStrike">
                <a:solidFill>
                  <a:srgbClr val="ff0066"/>
                </a:solidFill>
                <a:latin typeface="Tahoma"/>
              </a:rPr>
              <a:t>.</a:t>
            </a:r>
            <a:r>
              <a:rPr b="1" lang="de-CH" sz="8800" spc="-1" strike="noStrike">
                <a:solidFill>
                  <a:srgbClr val="00ff00"/>
                </a:solidFill>
                <a:latin typeface="Tahoma"/>
              </a:rPr>
              <a:t>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mph" presetID="2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0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511" dur="1" fill="hold">
                                    <p:stCondLst>
                                      <p:cond evt="end">
                                        <p:tn val="508"/>
                                      </p:cond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6000"/>
                            </p:stCondLst>
                            <p:childTnLst>
                              <p:par>
                                <p:cTn id="517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1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000"/>
                            </p:stCondLst>
                            <p:childTnLst>
                              <p:par>
                                <p:cTn id="521" nodeType="afterEffect" fill="hold" presetClass="exit" presetID="5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52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33d tr0ub13z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1441440"/>
            <a:ext cx="1003320" cy="1987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812000" y="1441440"/>
            <a:ext cx="1090800" cy="1987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50920" y="4292640"/>
            <a:ext cx="1245960" cy="1989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812000" y="4292640"/>
            <a:ext cx="1094040" cy="1989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wheel spokes="1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181080" y="-1900080"/>
            <a:ext cx="9721800" cy="1072800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934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03280" y="-1143000"/>
            <a:ext cx="6983640" cy="9144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Tahoma"/>
              </a:rPr>
              <a:t>gr00vy b@by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diamond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path" presetID="3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48148E-006 C 0.03143 0.06042 0.07778 0.12292 0.11563 0.14792 C 0.17223 0.18842 0.22657 0.20393 0.23733 0.18356 C 0.24584 0.16342 0.20764 0.11319 0.15122 0.07268 C 0.11337 0.04745 0.04427 0.03009 -0.01649 0.02754 C -0.07534 0.03009 -0.1467 0.04745 -0.18454 0.07268 C -0.24097 0.11319 -0.27882 0.16342 -0.2684 0.18356 C -0.25781 0.20393 -0.20347 0.18842 -0.14895 0.14792 C -0.11111 0.12292 -0.06302 0.06042 -0.03333 1.48148E-006 C -0.00208 -0.06296 0.01893 -0.14607 0.01893 -0.19884 C 0.01893 -0.27917 0.00452 -0.34144 -0.01649 -0.34144 C -0.03576 -0.34144 -0.05225 -0.27917 -0.05225 -0.19884 C -0.05225 -0.14607 -0.02934 -0.06296 -3.61111E-006 1.48148E-006 Z">
                                      <p:cBhvr>
                                        <p:cTn id="120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7600"/>
                            </p:stCondLst>
                            <p:childTnLst>
                              <p:par>
                                <p:cTn id="129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600"/>
                            </p:stCondLst>
                            <p:childTnLst>
                              <p:par>
                                <p:cTn id="13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181080" y="-1827360"/>
            <a:ext cx="9650520" cy="1069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0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2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00000" y="-1395360"/>
            <a:ext cx="6983640" cy="9144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Tahoma"/>
              </a:rPr>
              <a:t>0nc3 m0r3, gr00vy b@by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split dir="out" orient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25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path" presetID="45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5521 -1.65208 L -0.31042 0.122 C -0.30156 0.122 -0.29323 -0.07662 -0.2816 -0.07986 C -0.26667 -0.03842 -0.23768 0.33704 -0.22049 0.37014 C -0.20365 0.37014 -0.19219 0.11852 -0.17795 0.11852 C -0.15868 0.11852 -0.2434 -0.06134 -0.2066 -0.06134 L -0.07674 -0.08032 L -0.11771 0.23866 L -0.01458 0.122 L 0.04444 0.29051 L 0.08107 0.12084 C 0.1118 0.11713 0.07934 -0.03101 0.11007 -0.03726 C 0.12118 -0.03819 0.13472 0.15301 0.15156 0.15533 C 0.1684 0.15811 0.19496 -0.01435 0.20035 -0.01319 C 0.20937 -0.0081 0.21562 0.15811 0.22656 0.16088 L 0.27396 0.08102 L 0.95312 0.38125 E">
                                      <p:cBhvr>
                                        <p:cTn id="168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evt="end">
                                        <p:tn val="167"/>
                                      </p:cond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500"/>
                            </p:stCondLst>
                            <p:childTnLst>
                              <p:par>
                                <p:cTn id="171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7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5934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10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000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5934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7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2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7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91960"/>
            <a:ext cx="8229600" cy="61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p0w3rp0Int</a:t>
            </a:r>
            <a:br>
              <a:rPr sz="9600"/>
            </a:br>
            <a:br>
              <a:rPr sz="9600"/>
            </a:b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ru1@z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8" dur="5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00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8500"/>
                            </p:stCondLst>
                            <p:childTnLst>
                              <p:par>
                                <p:cTn id="2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evt="end">
                                        <p:tn val="260"/>
                                      </p:cond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2209680" cy="5759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156360" y="549360"/>
            <a:ext cx="2732040" cy="5759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916360" y="504720"/>
            <a:ext cx="28796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D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N0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133C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Pr0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! !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" presetSubtype="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5" presetSubtype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8500"/>
                            </p:stCondLst>
                            <p:childTnLst>
                              <p:par>
                                <p:cTn id="285" nodeType="afterEffect" fill="hold" presetClass="exit" presetID="53" repeatCount="5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02:17:55Z</dcterms:created>
  <dc:creator>powerpoint : robocop / music: maliktrey</dc:creator>
  <dc:description>;-)</dc:description>
  <dc:language>en-US</dc:language>
  <cp:lastModifiedBy>RBC</cp:lastModifiedBy>
  <dcterms:modified xsi:type="dcterms:W3CDTF">2005-08-16T04:12:34Z</dcterms:modified>
  <cp:revision>47</cp:revision>
  <dc:subject>buenzli powerpoint fun compo</dc:subject>
  <dc:title>atl-007-p0w3rp0Int ru1@z</dc:title>
</cp:coreProperties>
</file>